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4A9-5039-4730-80E0-F47095E5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F5E-769C-41B0-83FB-F33102B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156-94DF-4621-82ED-3CF629D4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E09-9E55-4314-AF16-CDD68BA1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026-91C9-4331-905B-2D081A86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AE1-AE66-4915-A73E-08CBBF3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3F5-16C0-4713-ABF3-D409E49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D11-5055-4F2F-9021-AC1661C2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4D4-7777-4939-A3CF-74A010C1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430-DB57-40B9-82EB-EF50A019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459-0926-46BE-A3D1-B517560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987-4C3C-4F4F-8E3A-A05AC40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11BC-0A4C-4F2B-9FCC-AFDF310A3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86400" y="2362320"/>
            <a:ext cx="1990800" cy="3990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2286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day I was playing in lawn in front of my house. It was a sunny bright day. I was in a jolly mood. My mother was calling me in for breakfast but I didn’t want to spoil my day. I turned deaf to her repeated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1447920"/>
            <a:ext cx="1752840" cy="1523880"/>
          </a:xfrm>
          <a:prstGeom prst="cloudCallout">
            <a:avLst>
              <a:gd name="adj1" fmla="val -47375"/>
              <a:gd name="adj2" fmla="val 5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 mother call. I won’t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1725480" cy="262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95480" y="3581280"/>
            <a:ext cx="1922760" cy="2590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22860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Mother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came outside and what I saw in her hands a plate full of porridge! What a foolish I was to ignore her calls! Now it was mother’s turn to tease me. She asked me to first take a bath and then have breakfast. She knew well how much I liked eating porrid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1828800"/>
            <a:ext cx="2819520" cy="1676520"/>
          </a:xfrm>
          <a:prstGeom prst="wedgeEllipseCallout">
            <a:avLst>
              <a:gd name="adj1" fmla="val -32490"/>
              <a:gd name="adj2" fmla="val 768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her please let me have porridge first then I will do as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828800"/>
            <a:ext cx="2743200" cy="1523880"/>
          </a:xfrm>
          <a:prstGeom prst="wedgeEllipseCallout">
            <a:avLst>
              <a:gd name="adj1" fmla="val -8388"/>
              <a:gd name="adj2" fmla="val 11135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o dear son, do as I say or you won’t have it at 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1981440" cy="27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112160" y="2590920"/>
            <a:ext cx="1498320" cy="3267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86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Mother went inside carrying away the porridge plate. My younger sister came there skipping and mocked at me. I always teased her and she took the chance to laugh at me! Now I had only one option left before me and that was to do as mother told. I took bath and then got porridge! It was a horrible day for me when I had to giv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981080"/>
            <a:ext cx="2438280" cy="1371600"/>
          </a:xfrm>
          <a:prstGeom prst="wedgeEllipseCallout">
            <a:avLst>
              <a:gd name="adj1" fmla="val 63995"/>
              <a:gd name="adj2" fmla="val 50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y don’t you do as mother tells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981080"/>
            <a:ext cx="2362320" cy="1371600"/>
          </a:xfrm>
          <a:prstGeom prst="wedgeEllipseCallout">
            <a:avLst>
              <a:gd name="adj1" fmla="val 50740"/>
              <a:gd name="adj2" fmla="val 400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n’t you shut your mouth? Don’t irritate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01:32Z</dcterms:created>
  <dc:creator>Rahul Yadav</dc:creator>
  <dc:description/>
  <dc:language>en-US</dc:language>
  <cp:lastModifiedBy>abc</cp:lastModifiedBy>
  <dcterms:modified xsi:type="dcterms:W3CDTF">2010-10-19T18:31:24Z</dcterms:modified>
  <cp:revision>2</cp:revision>
  <dc:subject/>
  <dc:title>When I was teased!</dc:title>
</cp:coreProperties>
</file>